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FE6-628E-4C71-A5E6-AFB6C88B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00A-3E4A-4906-905C-1AE3A5A8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F24-3DDC-4E24-A12A-DD890738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92E-E7F5-4609-BB2E-0962CC0C3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8F8A-6D6B-4909-AE09-7343DAB9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F4B9-A650-45B8-BB86-06D3AA2E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3EAA-F1DB-40E2-ADD2-04B8D807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A45E-859B-4B2F-8526-923F14A8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AE5D-E7E7-4B4F-B93F-D92001B3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057F-EB5C-446C-91AA-D200B1A2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8AE7-44CA-4C43-84ED-66CD4962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A430-121F-4AC2-820B-ED704FEA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5513-9F2E-4F97-9CA1-BFABE5A7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DC25-5195-4B01-B43B-6FA2170E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B78B-C521-48FF-9A1B-5A235956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0609-6773-42CE-8289-BA2BE238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DA38-2012-4185-9B91-1F000E4DE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B995-3C42-423F-84E2-75AFBB71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F50-0824-4947-8314-1F188088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2390-DDAB-4B78-A30D-B5730460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4A01-A009-4FFE-B620-70DFE5D0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2450-DD47-4907-9188-7E37EA68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262-4C21-4737-9E10-8CC5BE23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D1CB-DB66-4E32-9F98-FDDD939B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0E7D-B2C2-48E2-BD01-8613A7D4B35C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C63F-70C9-4A5D-916C-7F55C05D7E4A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000160" y="1428840"/>
            <a:ext cx="5143680" cy="283608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ffff"/>
                </a:solidFill>
                <a:latin typeface="Arial"/>
              </a:rPr>
              <a:t>ADMINISTRACIÓN DE CONSORCIOS DE P.H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98560" y="5429160"/>
            <a:ext cx="7345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c. Santiago A. Pontor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539640" y="774720"/>
            <a:ext cx="8064720" cy="52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4. De la Desinsec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Realiza Servicio de Desinsectació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caso afirmativ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hibe Certificado de Desinsectació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l Servici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azón Social de la Empres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539640" y="1582560"/>
            <a:ext cx="80647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5. De la Conservación de Ascen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Libr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última inspec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 intervinient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Responsable Técnic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Matrícul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539640" y="1312920"/>
            <a:ext cx="806472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6. De la Conservación de la Fach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tigüedad del inmueble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orresponde?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resenta Certificado de Conservación Ley 257/99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resenta Informe Técnico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Informe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Certificado de Conserv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571680" y="1697040"/>
            <a:ext cx="799920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Certificado de Edificio Segu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otorga Certificado de Edificio Seguro?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emisión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lazo en días otorgado por el profesional para efectuar las mejoras observad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ffff"/>
                </a:solidFill>
                <a:latin typeface="Tahoma"/>
              </a:rPr>
              <a:t>INGRESO Y EGRESO DE PROVEEDOR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GRESO:                     Fecha      /   /                     Horari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ub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tad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ellido y Nombre Personal Autor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guro / A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GRESO:                       Fecha      /   /                     Horari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RMA:                                   ACLARAC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4 Conector recto"/>
          <p:cNvSpPr/>
          <p:nvPr/>
        </p:nvSpPr>
        <p:spPr>
          <a:xfrm>
            <a:off x="324000" y="1052640"/>
            <a:ext cx="839124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ffff"/>
                </a:solidFill>
                <a:uFillTx/>
                <a:latin typeface="Tahoma"/>
              </a:rPr>
              <a:t>Disposición 415/11  Instalaciones fijas contra incendi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Consorci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ener Pl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Libro que proveerá el mantenedor (Libro de Act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Hacer anualmente el manteni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Hacer trimestralmente un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ener el certificado de operatividad (lo otorga el        mantenedor, el duplicado va al libro de act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 tramitación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recae sobre los Administr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ffff"/>
                </a:solidFill>
                <a:uFillTx/>
                <a:latin typeface="Tahoma"/>
              </a:rPr>
              <a:t>Disposición 2246/11 Máscaras de escape y</a:t>
            </a:r>
            <a:r>
              <a:rPr b="1" lang="es-E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s-ES" sz="2800" spc="-1" strike="noStrike" u="sng">
                <a:solidFill>
                  <a:srgbClr val="ccffff"/>
                </a:solidFill>
                <a:uFillTx/>
                <a:latin typeface="Tahoma"/>
              </a:rPr>
              <a:t>protección respiratoria para uso del personal</a:t>
            </a:r>
            <a:r>
              <a:rPr b="0" lang="es-ES" sz="2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Suspendid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hasta 1/1/12 (por disposición 4381) ya que Defensa del Consumidor no conocía la función del INTI contrario a su uso por problemas técn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ffff"/>
                </a:solidFill>
                <a:latin typeface="Tahoma"/>
              </a:rPr>
              <a:t>Empadronamiento</a:t>
            </a:r>
            <a:br>
              <a:rPr sz="5400"/>
            </a:br>
            <a:r>
              <a:rPr b="0" lang="es-ES" sz="5400" spc="-1" strike="noStrike">
                <a:solidFill>
                  <a:srgbClr val="ccffff"/>
                </a:solidFill>
                <a:latin typeface="Tahoma"/>
              </a:rPr>
              <a:t>C A B A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ffff"/>
                </a:solidFill>
                <a:uFillTx/>
                <a:latin typeface="Tahoma"/>
              </a:rPr>
              <a:t>Resolución 2497/11</a:t>
            </a:r>
            <a:r>
              <a:rPr b="1" lang="es-ES" sz="28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 u="sng">
                <a:solidFill>
                  <a:srgbClr val="ccffff"/>
                </a:solidFill>
                <a:uFillTx/>
                <a:latin typeface="Tahoma"/>
              </a:rPr>
              <a:t>Secretaría de Trabajo de Buenos Aires</a:t>
            </a:r>
            <a:br>
              <a:rPr sz="2800"/>
            </a:br>
            <a:r>
              <a:rPr b="1" lang="es-ES" sz="2800" spc="-1" strike="noStrike">
                <a:solidFill>
                  <a:srgbClr val="ccffff"/>
                </a:solidFill>
                <a:latin typeface="Tahoma"/>
              </a:rPr>
              <a:t>www.buenosaires.gob.ar/apps/empleadores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Requier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- Información general de los empleadores: actividades económicas, domicilio fiscal, datos de registraciòn y 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antidad empleados y establecimientos en CA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Tipo de contr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Lugar de residencia y datos de los empleados: nacionalidad, instrucción, discapacidad, et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l final emite “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constancia anua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”,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Rúbrica documentación labo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Inspector del Ministerio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S OBLIG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00000" y="1484280"/>
            <a:ext cx="338472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Lib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muner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Órd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scens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i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146560" y="1484280"/>
            <a:ext cx="38181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Rúb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rop. Inmue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nist.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ob. CA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úblico.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6 Cerrar llave"/>
          <p:cNvSpPr/>
          <p:nvPr/>
        </p:nvSpPr>
        <p:spPr>
          <a:xfrm>
            <a:off x="4427640" y="2133720"/>
            <a:ext cx="360360" cy="1150920"/>
          </a:xfrm>
          <a:custGeom>
            <a:avLst/>
            <a:gdLst>
              <a:gd name="textAreaLeft" fmla="*/ 0 w 360360"/>
              <a:gd name="textAreaRight" fmla="*/ 129960 w 360360"/>
              <a:gd name="textAreaTop" fmla="*/ 50040 h 1150920"/>
              <a:gd name="textAreaBottom" fmla="*/ 1100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9"/>
                  <a:pt x="10800" y="3017"/>
                </a:cubicBezTo>
                <a:lnTo>
                  <a:pt x="10800" y="3089"/>
                </a:lnTo>
                <a:cubicBezTo>
                  <a:pt x="10800" y="4598"/>
                  <a:pt x="16200" y="6106"/>
                  <a:pt x="21600" y="6106"/>
                </a:cubicBezTo>
                <a:cubicBezTo>
                  <a:pt x="16200" y="6106"/>
                  <a:pt x="10800" y="7615"/>
                  <a:pt x="10800" y="9123"/>
                </a:cubicBezTo>
                <a:lnTo>
                  <a:pt x="10800" y="18583"/>
                </a:lnTo>
                <a:cubicBezTo>
                  <a:pt x="10800" y="2009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7 Cerrar llave"/>
          <p:cNvSpPr/>
          <p:nvPr/>
        </p:nvSpPr>
        <p:spPr>
          <a:xfrm>
            <a:off x="4427640" y="3533760"/>
            <a:ext cx="360360" cy="1152720"/>
          </a:xfrm>
          <a:custGeom>
            <a:avLst/>
            <a:gdLst>
              <a:gd name="textAreaLeft" fmla="*/ 0 w 360360"/>
              <a:gd name="textAreaRight" fmla="*/ 129960 w 360360"/>
              <a:gd name="textAreaTop" fmla="*/ 50040 h 1152720"/>
              <a:gd name="textAreaBottom" fmla="*/ 11026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7"/>
                  <a:pt x="10800" y="3013"/>
                </a:cubicBezTo>
                <a:lnTo>
                  <a:pt x="10800" y="3093"/>
                </a:lnTo>
                <a:cubicBezTo>
                  <a:pt x="10800" y="4600"/>
                  <a:pt x="16200" y="6106"/>
                  <a:pt x="21600" y="6106"/>
                </a:cubicBezTo>
                <a:cubicBezTo>
                  <a:pt x="16200" y="6106"/>
                  <a:pt x="10800" y="7613"/>
                  <a:pt x="10800" y="9119"/>
                </a:cubicBezTo>
                <a:lnTo>
                  <a:pt x="10800" y="18587"/>
                </a:lnTo>
                <a:cubicBezTo>
                  <a:pt x="10800" y="2009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6" name="9 Conector recto de flecha"/>
          <p:cNvCxnSpPr/>
          <p:nvPr/>
        </p:nvCxnSpPr>
        <p:spPr>
          <a:xfrm>
            <a:off x="4233960" y="519588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97" name="10 Conector recto de flecha"/>
          <p:cNvCxnSpPr/>
          <p:nvPr/>
        </p:nvCxnSpPr>
        <p:spPr>
          <a:xfrm>
            <a:off x="4233960" y="586584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S OBLIG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00000" y="1484280"/>
            <a:ext cx="395928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Lib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trol Sanitario y  Agua Po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trol Seguridad Edil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greso y Egreso de Proveedor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146560" y="1484280"/>
            <a:ext cx="3818160" cy="54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Rúb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úblico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ublico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g. Publico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2" name="9 Conector recto de flecha"/>
          <p:cNvCxnSpPr/>
          <p:nvPr/>
        </p:nvCxnSpPr>
        <p:spPr>
          <a:xfrm>
            <a:off x="4284720" y="3212640"/>
            <a:ext cx="721440" cy="252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103" name="9 Conector recto de flecha"/>
          <p:cNvCxnSpPr/>
          <p:nvPr/>
        </p:nvCxnSpPr>
        <p:spPr>
          <a:xfrm>
            <a:off x="4500720" y="450864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104" name="9 Conector recto de flecha"/>
          <p:cNvCxnSpPr/>
          <p:nvPr/>
        </p:nvCxnSpPr>
        <p:spPr>
          <a:xfrm>
            <a:off x="4427640" y="595008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332000" y="30960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DE REGISTRO DE FI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19280" y="1247760"/>
            <a:ext cx="77054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idad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is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t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ech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mbre y Apelli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léfo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centu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micilio constituid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d. Post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ertificado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ráct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11 Conector recto"/>
          <p:cNvSpPr/>
          <p:nvPr/>
        </p:nvSpPr>
        <p:spPr>
          <a:xfrm>
            <a:off x="250920" y="50133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36440" y="30960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CONTROL SANITARIO Y AGUA PO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41360" y="1197000"/>
            <a:ext cx="826128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mbre de la Empres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Registr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echa de limpieza de tan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del análisis del agua potable:    Apto / No ap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 del Administrador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lar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 del Director Técnic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lar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11 Conector recto"/>
          <p:cNvSpPr/>
          <p:nvPr/>
        </p:nvSpPr>
        <p:spPr>
          <a:xfrm>
            <a:off x="250920" y="50133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5 Conector recto"/>
          <p:cNvSpPr/>
          <p:nvPr/>
        </p:nvSpPr>
        <p:spPr>
          <a:xfrm>
            <a:off x="250920" y="32241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36440" y="31284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CONTROL DE SEGURIDAD EDIL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50920" y="1197000"/>
            <a:ext cx="864216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Datos del Administ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mbre y Apellido o Razón Social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RP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xhibe certificado en sector visible del edificio seg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. Nº 3205/DGDYPC/10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Datos del Profe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mbre y Apellid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N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L/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trícula Nº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gistro N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Encomienda Profesion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ejo Profesional al que pertenece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ítulo habilit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añía ART y/o Seguro de Accidentes Personales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Póliz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5 Conector recto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539640" y="274680"/>
            <a:ext cx="806472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1. De los Matafuegos y Protección Contra Incen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ntidad de Matafueg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mple con la dotación mínima según normativ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el control periódico trimestral según norm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 proveedor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Disposición 2614-DGDyPC/2008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la Recarga Anual obligatoria según normas vigent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Se encuentran los extintores ubicados en espacios comunes, accesibles y visibl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Se verifica que la chapa baliza se adecúa al extinto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osee nicho de incendi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l nicho está completo según normativ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539640" y="428760"/>
            <a:ext cx="80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2. De las Calde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caldera/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ncuentran habilitad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osee Seguro de R.C. para las mism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añía Asegurado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óliza Nº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enci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l último Certificado de Verificación Periódic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encimiento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Profesional Certific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ítulo habilitante del Profesional Certific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ejo o Colegio Profesional habilitant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rícula N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iste Planilla de Verificación de mantenimiento Periódic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539640" y="504720"/>
            <a:ext cx="806472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3. De la Limpieza de los Tan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Libro de Control Sanitario y Agua Potabl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ncuentra en el edifici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stá firmado por el Director Técnic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Apertura ante Escribano Públ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 la última limpieza realizad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hibe el Certificado según Resolución Nº 6/APRA/11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8:58:38Z</dcterms:created>
  <dc:creator>Daniel Cirigliano</dc:creator>
  <dc:description/>
  <dc:language>en-US</dc:language>
  <cp:lastModifiedBy>Usuario</cp:lastModifiedBy>
  <dcterms:modified xsi:type="dcterms:W3CDTF">2012-04-17T16:05:45Z</dcterms:modified>
  <cp:revision>70</cp:revision>
  <dc:subject/>
  <dc:title>Diapositiva 1</dc:title>
</cp:coreProperties>
</file>